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3058-BCC2-45C2-8382-7A893386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9534-2598-4445-8CB9-D1E4E018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DEF5-8432-4624-99AE-13E75B73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B062-2352-450D-8477-7EBA768C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B64-3785-4E20-BA66-0F36D7EB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2C83-E4CA-46FB-B800-BD169686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B6A-412B-4049-97F5-98B7A4DD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C70C-3430-4A3F-9E35-F3E6488D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FB4-320B-4E90-9037-33212D91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9FBD-BED8-4AB1-ACE5-F8ECC007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1FFE-0657-4D57-A6BF-0EA793EB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A210-3ADD-499C-8FAE-4BC9E958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12B7-9739-4E5B-B810-943122BD255A}" type="slidenum">
              <a:rPr b="0" lang="sr-Latn-C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према пацијента и мас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98989"/>
                </a:solidFill>
                <a:latin typeface="Calibri"/>
              </a:rPr>
              <a:t>Doc. Dr T.Lukov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571680"/>
            <a:ext cx="7442280" cy="55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ави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на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натоми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изиолог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шти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алпац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цијал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стирањ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таљ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стори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зуел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серва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нуел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ретнос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1/3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олесник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ишићн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келетн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истем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(di Caprio,2003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авил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аж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63520" y="999720"/>
            <a:ext cx="85233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ивидуал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иши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различи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ер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јат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пис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криве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цијен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езбеди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доб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гур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фесионал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станц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ира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тиц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пе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бегав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рект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глобо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штов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траиндик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Врсте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асаж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63520" y="928800"/>
            <a:ext cx="7386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Према пореклу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оји савремена и традиционална масажа. Савремена масажа је повезана са кинезитерапијом; данас се користи у терапијске и у профилактичке сврх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Према томе ко изводи масажу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момасажа, код које се особа сама масира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у изводи једна особа (терапеут) на другој особи 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паратурна ма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Врст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аме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Медицинска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ма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 класична мануелна ма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 лимфна дрен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 рефлексна ма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.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л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Спортска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ма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Козметичка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маса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ема начину извођења 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63520" y="1071360"/>
            <a:ext cx="73864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ласичне технике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глађење,трљање, гњечење, лупкање и вибр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пецијалне технике масаже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ериостна, фасцијална, поткожна, кожна, сегментна масажа, акопресура, рефлексна масажа стопала, шијацу масажа, мануелна лимфна дренажа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јства на организам (истраживањарелативно су  новијег  датума и  малобројн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војак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ректно, притиском на кожу масираног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иректно, изазивајући рефлексне про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Трајањ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аж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шт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саж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50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60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ртск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саж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30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40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лаксацио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45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гионал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3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6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зи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еђ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дов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зо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llegro viv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бу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глобов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р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dant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троном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ицањ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ећај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лагоди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мперамент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сираног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озир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63520" y="928440"/>
            <a:ext cx="738648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ме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тисак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ћ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крет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риј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личи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ом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тиск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с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уби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клад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скуств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лас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иш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ноп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уп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ишић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ита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ајањ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ледиц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зи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з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крет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имулиш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р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уштај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Физиолошка дејства масаж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63160" y="857160"/>
            <a:ext cx="8094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Проток ткивних теч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брзање протока крви и лимфе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Ресорпција ото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Неуромускуларни систе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гулација тонуса    Аналгетски ефекат    Смањење замо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Везивно ткив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ње покретљив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мекшавање адхезија и ожиља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Психолошки ефек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лаксациј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ањење депресије и анксиоз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Рефлексни ефек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бољшање имун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ањење/регулација крвног притис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мањење бола на удаљеним мести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сцеросоматски и соматовисцерални рефлек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Техник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аж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ханотерап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апиј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мењ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ди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ојствен је свим културама и временским епоха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75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личит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х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тицај масаже на ткивне течност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1213920"/>
            <a:ext cx="7650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ватови вршени у смеру кретања венске крви и лимфе убрзавају; у супротном смеру успоравају кретањ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.Ризик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асност да се покрене тромб и изазове емболија, КВ, церебрална и друга оштећењ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ед убрзавања системског крвотока, масажа побољшава проток крви кроз мале капиларе, кроз које проток крви може бити ограничен услед мишићне напетости. Овај ефекат је обично одмах уочљив настанком хиперемије и повећањем локалне температуре тки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тицај масаже на ткивне течност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63160" y="1143000"/>
            <a:ext cx="8309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то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следица различитих повреда меких ткива, коштаних прелома, реуматизама, итд. Вишак течности успорава процес оздрављења ткива. Глађење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итискањем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ЛД&gt; убрзати лимфоток и тиме поспешити ресорпцију ото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„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Упала мишић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“-услед пуцањ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ређеног броја везивних влакана&gt;инфламација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ток, проме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едности. Оток врши притисак на ноцицепторе&gt;бол. Побољшањем циркулације и лимфотока масажа убрзава опоравак након упале мишића, смањује б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тицај на масаже на нер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в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-мишићни сист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дан од најчешћих разлога за примену масаже јест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смањење мишићне напетости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 Мишићна напетост&gt; исхемија, отпор на истезање, иритација ноцицепт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а може смањити напетост мишића, као и смањити осећај бола путем специфичног механизма „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ate control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тицај масаже на везивно тки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63520" y="1071720"/>
            <a:ext cx="738648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сције обавијају анатомске структуре појединачно и сачињене су углавном од везивног ткива. Смањена покретљивост везивног ткива може бити један од разлога бројних мускулоскелетних проблем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Мрежа везивних ткива повезује делове тела , тако да притисак на један део утиче и на друге делове тела. Лаганим дуготрајним притиском и истезањем,везивна влакна се издужују и смањује се напетост фасциј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давна истраживања показују да, поред мишићне тетиве, и везивно ткиво преноси силу мишићне контракције на кости и околне структуре. Смањењем тензије везивног ткива, масажа утиче и на тонус у мишићи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тицај масаже на везивно тки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63520" y="1356840"/>
            <a:ext cx="73864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сажа има благотворно дејство на тетиве и лигамен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јчешће промене на тетивама -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ендинитис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gt; дегенерација колагена у тетиви. Масажа побољшава пролиферацију фибробласта&gt; опоравак оштећеног тки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терапиј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еносиновитиса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јер смањује упалу и иритацију, и спречава настанак адхезија између тетиве и њеног омотач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кон повреда меких ткива, услед имобилизације и смањења покрета долази до стварања вишка везивног ткива (ожиљка). Ожиљак може ометати преношење импул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Утицај масаже на психу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63520" y="785880"/>
            <a:ext cx="852336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сихолошке и физичке компоненте здравља тесно повезане у процесу постизања и одржавања и оптималног здравља Осећај релаксираности није само последица смањеног мишићног тонус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ањује стрес и анксиозност, делује сугестивно и опуштајуће на психу, умирује напетост, терапијски делује на нервозу, главобољу и несаниц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сажа је корисна и за масера. Заједничка искуства и активности зближавају људе, и представљају посебан вид комуникације (близак контакт између две особ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Додир и интеракција између пацијента и масера представљају један од главних елемената ефикасности масаже. Поверење у масера има важну улог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дивидуални приступ пацијен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ефлексни утицаји масаж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63520" y="713880"/>
            <a:ext cx="85946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ки  ефекти масаже нису последица директних физичк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з одговора које регулише ВН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дан од најјачих рефлексних одговора је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одговор имуног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стема, а последично и убрзан процес оздрављења (смањује нивое хормона стреса&gt;побољшање имуните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сажа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снижава ТА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(хемијски и психолошки фактори),  и поправља циркулациј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сажа везивног ткива доводи до повећања протока крви кроз орга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активирајући кутано-висцералне рефлексе. Ови рефлекси поправљају циркулацију у датој регији, и доводе до смањења осећаја бола. Аналгетски ефекат масаже објашњава се и отпуштањем бета-ендорфи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флексни ефекти масаже посебно су изражени у  Туи На, Шијацу, акупресур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ефлексни утицаји масаж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2920" y="856800"/>
            <a:ext cx="88581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 се изазват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исцеросоматс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ефлекс. Овај рефлекс укључује реакције у ЦНС путем висцералних (органа) и соматских ткива (обично мишићних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рвна влакна  иду до трбушних органа, и од њих, излазе из кичмене мождине на истом нивоу као и сензорна и моторна влакна за леђне и трбушне мишиће. Због анатомске близине, развијају се рефлексни лукови између висцералних и соматских влакана који омогућавају њихову интеракцију. Вишак сензорних импулса из дисфункционалних органа може путовати ка кичменој мождини и „прелити“ се у рефлексном луку до мишићног ткива, чија моторна влакна полазе са истог нивоа, изазивајући повећање моторних сигнала и последично повећање мишићне напет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нути процес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матовисцерални рефлекс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одразумева «преливање» сигнала из пренапетих мишића до нерава који воде до органа, што доводи до дисфункционалног нивоа стимулације органа и евентуалних поремећаја рада орга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Општа дејства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63520" y="500040"/>
            <a:ext cx="738648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мањење општег замо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гулација мишићног тону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лакса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алгетски ефека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да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брзање циркулације и лимфото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таболички ефека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Локална деј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3520" y="785880"/>
            <a:ext cx="738648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иперемиј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ећање метаболизм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ктивност знојних и лојних жлезд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сорпција оток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већање тургора и еластичности кож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бољшање епителизације и гранулациј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налгетски ефека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азмолитички ефека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серск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581040" y="1600200"/>
            <a:ext cx="7981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64304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63520" y="571680"/>
            <a:ext cx="73864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лојеви кож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 u="sng">
                <a:solidFill>
                  <a:srgbClr val="000000"/>
                </a:solidFill>
                <a:uFillTx/>
                <a:latin typeface="Calibri"/>
              </a:rPr>
              <a:t>Епидерм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је горњи, површнији слој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5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оје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Базални слој  је дубљи,  непрестано производи нове ћелије, које се постепено померају ка површи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старе и умиру. Тиме је површина коже прекривена мртвим ћелијама пуним кератина, који кожи даје чврстин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 u="sng">
                <a:solidFill>
                  <a:srgbClr val="000000"/>
                </a:solidFill>
                <a:uFillTx/>
                <a:latin typeface="Calibri"/>
              </a:rPr>
              <a:t>Дерм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има крвне и лимфне судове, нерве, фоликуле длака, знојне и лојне жлезд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С</a:t>
            </a:r>
            <a:r>
              <a:rPr b="0" lang="sr-CS" sz="3000" spc="-1" strike="noStrike" u="sng">
                <a:solidFill>
                  <a:srgbClr val="000000"/>
                </a:solidFill>
                <a:uFillTx/>
                <a:latin typeface="Calibri"/>
              </a:rPr>
              <a:t>лој поткожног тки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кож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63520" y="785880"/>
            <a:ext cx="852336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ханич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чишће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с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ртв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рвоток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имфот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стетск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гле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же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тегнутос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ластичнос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бој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ургор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..);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тклањ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сноћ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прављ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ћелијс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исање, отпорност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љн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раж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нојн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јних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жлез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грева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2-3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цептор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жи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нутрашњ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ган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слов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беспрекорн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игије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ћање циркулације у крвним судовима ко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ректним механичким дејством на крвне и лимфне судо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лобађањем вазоактивних матер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јством аутономног нервног система на стимулацију ћелија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tes, 200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-10224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63520" y="404280"/>
            <a:ext cx="816624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времено повећањ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масиране регије за 2 до 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;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још један од доказа постојања хиперемије. 30 минута од завршетка масаже кожа поново им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коју је имала пре масаж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ханизам 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флексном хиперемиј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ханичким д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вом на кож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1)везивно ткиво постаје растреситије, а тиме кожа мекш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2) поправља  отпорност коже на спољашње утицаје Ефекат заштите се може појачати добро одабраним средством за масаж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3) доприноси здрављу и еластичности коже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4) убрзава  метаболизам, поготову метаболизам азотних материја, и повећава излучивање мокраћ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64268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глобо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0"/>
            <a:ext cx="7476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зглобов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642600"/>
            <a:ext cx="765000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ноги аутори препоручују благу и постепену масажу зглобова кратко време након повреде, да би се брже ресорбовао от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колико није реч о тешкој повреди зглоба, која захтева имобилизацију, већ  </a:t>
            </a:r>
            <a:r>
              <a:rPr b="0" lang="sr-CS" sz="3000" spc="-1" strike="noStrike" u="sng">
                <a:solidFill>
                  <a:srgbClr val="000000"/>
                </a:solidFill>
                <a:uFillTx/>
                <a:latin typeface="Calibri"/>
              </a:rPr>
              <a:t>трећег дана од настан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еба почети изнад и испод зглоба, а тек онда прећи на масажу самог зглоб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једини аутори сматрају да  директно дејство на зглобове треба потпуно избегава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-10224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onsengeil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 убризгавао туш у колена експерименталног зеца, пре масаже;  једно колено је масирао, а друго не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ш из масираног колена дошао чак до препоне, бил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а је  у локалним лимфним жлездама и лимфотоку.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 страни која није масирана туш је остао на месту апликациј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azar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лимфа најбрже истиче из цевчице постављене у лимфни суд пса када се пас креће, нешто спорије кад се нога пса масира, а најспорије кад нога мируј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ишић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7358040" cy="55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Назив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ишић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857160"/>
            <a:ext cx="76500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и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 deltoideus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ouglast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m trapeziu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pezoidn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m rhomboideus.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ст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m intrecostale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(између ребара)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m frontali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(чеон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.flexor carpii radiali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прегибач руч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личина: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.gluteus maximus j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j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ћи у групи;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 peroneus longus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(дуги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дуж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eroneus brevi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(крат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0"/>
            <a:ext cx="747684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одел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ишић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обли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642600"/>
            <a:ext cx="765000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alelni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šić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etenast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m. biceps femoris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l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nast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m.sartori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asti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šići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ennatu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aju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nopov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spore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so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nosu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tivu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ja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ž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šića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unipennatu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m.ext digitorum longus)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bipennatus (m.rectus femoris) multipennatus ( m.deltoide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irkularni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šić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aju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centr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ičn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nopov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j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iraju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finkter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orbicularis ocul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ој полазиш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.</a:t>
            </a:r>
            <a:r>
              <a:rPr b="0" lang="sr-Latn-CS" sz="3200" spc="-1" strike="noStrike">
                <a:solidFill>
                  <a:srgbClr val="ff0000"/>
                </a:solidFill>
                <a:latin typeface="Calibri"/>
              </a:rPr>
              <a:t>b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eps brachii, m </a:t>
            </a:r>
            <a:r>
              <a:rPr b="0" lang="sr-Latn-CS" sz="3200" spc="-1" strike="noStrike">
                <a:solidFill>
                  <a:srgbClr val="ff0000"/>
                </a:solidFill>
                <a:latin typeface="Calibri"/>
              </a:rPr>
              <a:t>tr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eps surae, m </a:t>
            </a:r>
            <a:r>
              <a:rPr b="0" lang="sr-Latn-CS" sz="3200" spc="-1" strike="noStrike">
                <a:solidFill>
                  <a:srgbClr val="ff0000"/>
                </a:solidFill>
                <a:latin typeface="Calibri"/>
              </a:rPr>
              <a:t>quadr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.extensor carpi radialis longu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мишић који исправља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extensor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 ручје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arp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, лежи дуж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jusa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adiali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 и дужи је од осталих мишића своје групе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ongu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8880" y="-10224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63160" y="260280"/>
            <a:ext cx="830916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шићи за свој рад троше велику количину О2 и хран материја, који стижу кс. Отпад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леч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кис и карбами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) отклањају се у супротном смеру. Уколико се после напора мишић не одмори, остаје нагомилана млечна кис (тзв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,,упала мишића,,).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оксини се могу задржати у мишићу и успоравати циркулацију и доток хранљивих материја. Временом овакав мишић постаје напет и крут, а мишићно влакно бива замењено везивним влакнима. Ова  задебљања се називају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миогелозе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под прстима се могу напипати, и болна су на дод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мишић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63160" y="1214280"/>
            <a:ext cx="8094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пособља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шић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фикасниј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мора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мор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ши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лу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рмализаци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онус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шић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лу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иркулаци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шић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утоинтоксика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дукти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горева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таболиз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тич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наг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кретљив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речи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трофи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нервисан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алгетск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огело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пал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шић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Bernstain (1923): “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саж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мора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ормализација тонуса  и мишићна релаксација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јача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тив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расимпатик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ољ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ушт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ира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ша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сивн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лог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јатн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ружењ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нзор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имул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Zabludovski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: испитаник је могао да подигне терет у шаци од 1 к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брзином од 1 покрета у секунди 840 пута.  Ако би огледу претходила масажа руке, исти испитаник је могао да изведе 1100 понављањ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ксперимети који су изведени убризгавањем радиоактивних изотопа у испитивани мишић нису потврдили ни убрзање елиминације метаболита, нити повећање температуре у самом мишић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8880" y="-10224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ажом се може утицати на еластичност мишића, а тиме посредно и на већи обим покрета у зглобови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Nordchow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је експериментално доказао на групи добровољаца да је растојање између врхова прстију и тла при антефлексији трупа било мање након спровођења масаже, у односу на  вредности регистроване  пре масаж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Ефекти масаже на масно тки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63520" y="857160"/>
            <a:ext cx="73864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osenth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 можемо утицати на редукцију масног ткива и мршављ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приноси бржем и ефикаснијем елиминисању метаболичких продуката. Утиче на еластичност коже, чиме кожа лакше прати морфолошке промене при губитку тежин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Ефект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нервн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ист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63520" y="857160"/>
            <a:ext cx="73864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имулише периферне нерве директним дражењем нервних наставака у кож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НС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директно, преко периферних нера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бог реаговања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SY.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сажом се шире крвни судови, што би резултирало падом Т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SY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саж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елуј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кундарно, крвни притисак и вредности пулса се повећавају, дисање постаје убрзано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редњ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физиолошк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ру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1827360" y="1600200"/>
            <a:ext cx="548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Контраиндикације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ануелну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асаж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воре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штеће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паљењ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цес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раз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ебрил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зумир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лкохо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о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регулис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со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за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енут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ч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ш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дав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злед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срећ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ер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огућ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еа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авобољ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учн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јача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инир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мперату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Увек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радит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оквиру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војих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могућ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,Overworking yorself will on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ead the breakdown of the body,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WHEN ?    WHAT?   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редњ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физиолошк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ру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303200" y="1600200"/>
            <a:ext cx="653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редњ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физиолошк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но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редњ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физиолошк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но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57200" y="1695600"/>
            <a:ext cx="82296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14200" y="428760"/>
            <a:ext cx="722808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3:12:48Z</dcterms:created>
  <dc:creator>korisnik</dc:creator>
  <dc:description/>
  <dc:language>en-US</dc:language>
  <cp:lastModifiedBy>Info</cp:lastModifiedBy>
  <dcterms:modified xsi:type="dcterms:W3CDTF">2018-08-13T20:03:45Z</dcterms:modified>
  <cp:revision>83</cp:revision>
  <dc:subject/>
  <dc:title>Uvod u masažu</dc:title>
</cp:coreProperties>
</file>